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ED7E-7AA6-4C98-8EDE-495DF23F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D49-32CC-4519-8D05-5D5F974A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8769-6FFE-4CE9-94C2-8E766EE2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7865-24A0-4191-8587-4BC9FF0A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38E8-FCB1-4F80-A1A6-2D9B047B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470D-6E47-4164-A114-62D4EC27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51E-868E-4B39-8C70-7D661E5C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A3A-6D37-47C3-8DA6-3450A3CC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65FC-6D76-4E79-B8D3-3289C769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D064-9A8E-4DED-A426-59B4ECE7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E06E-2FD2-4AB5-B960-5CBEE905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F50-8E2D-4594-8490-BDA3D572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C129-8B2F-4841-9BA6-A4572A72E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a “Sna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say the word that appears before I 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pleas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til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ink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ai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under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whic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lear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lette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32:00Z</dcterms:created>
  <dc:creator>Wake County Public Schools</dc:creator>
  <dc:description/>
  <dc:language>en-US</dc:language>
  <cp:lastModifiedBy>jabdella</cp:lastModifiedBy>
  <dcterms:modified xsi:type="dcterms:W3CDTF">2010-02-14T18:44:52Z</dcterms:modified>
  <cp:revision>7</cp:revision>
  <dc:subject/>
  <dc:title>Words in a “Snap”</dc:title>
</cp:coreProperties>
</file>